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212-18D2-4AE6-A48C-760B780C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BBF-6247-4FC2-B9EB-D091F32B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F95-E26E-473B-B702-E2BAC9FD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2CA-1B13-46BF-A1EA-F1C77C66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79AA-DEF7-4D9B-957E-E7B155B3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FEF6-3FA3-4AAE-96F7-6F899CB3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BA40-A280-4BE1-AAD6-D0DF4A59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23CF-8C15-454C-9EFC-E916FF01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E890-76BC-4289-8F70-1F231BA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2118-6B2F-48B9-BAAD-EE34B95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978E-0F92-4E70-A66C-6E2EFF77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7E1-D5A5-40BA-9545-E12099A8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7F3D-636E-4C69-87F5-91163739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C407-A129-4AEC-8134-412C3D0A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2DC7-42CE-47FB-9512-E7799594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6598-4E1B-4E20-87CC-3FD43173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6438-5C4A-40F3-9C85-7C975500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D51-D23A-4E5C-9547-8E6EE6E5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32B-08AD-4BCC-8B08-8BB55144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479-539C-4E45-81B5-CC7CA889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C42-CF34-4D7D-B648-67FBB91C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5E0-63CA-4A78-BC8C-204DA18B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E49-405E-4730-8B22-286926E1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298-118F-4F15-A1B2-4BB3AB3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A2F7-BD97-42E3-8552-716EB0BD47A3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E0AE-7507-4B78-A9B6-CE839596326E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ession 1 of 1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Get Going with PowerMedia Plu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1: Search for a video you can use in clas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2: Pick a video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3: Preview the vide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4: Download the vide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w it’s your time to come up and share your vide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xplain why you picked that video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will you be able to help your teacher with PowerMedia Plus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PowerMedia Plus?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I help my teacher use PowerMedia Plus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 this session we will be learning about PowerMedia Plus. When we have completed this session you will be able to help your teacher navigate and download videos from the sit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Steps to using PowerMedia Plus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1: Open up Internet Explorer and type in </a:t>
            </a:r>
            <a:r>
              <a:rPr b="1" i="1" lang="en-US" sz="3200" spc="-1" strike="noStrike">
                <a:solidFill>
                  <a:srgbClr val="212164"/>
                </a:solidFill>
                <a:latin typeface="Arial"/>
              </a:rPr>
              <a:t>www.powermediaplus.com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in the address bar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2: Log into the website using your schools username and password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3: Click on Video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4: Type in a keyword of the video you are trying to find.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Steps to using PowerMedia Plus</a:t>
            </a:r>
            <a:endParaRPr b="1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5: Look at the list and select a video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6: Click on play to review video. </a:t>
            </a:r>
            <a:br>
              <a:rPr sz="3200"/>
            </a:b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Step7: Click the back button and click download once you like the video you previewed.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Now its your turn to try it. Lets find a video on fraction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llow the steps you learned to find the video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Now you have a chance to find your own video. Search for a video that could be useful in one of your classes now. If you are learning exponents in math search for exponents. Download it to the desktop.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03-01T17:01:49Z</dcterms:modified>
  <cp:revision>2</cp:revision>
  <dc:subject/>
  <dc:title>Workshop Title</dc:title>
</cp:coreProperties>
</file>